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791B-6FAE-44C6-A8DD-8807C3C9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417-4CC5-4EEF-988B-F9F7C9D4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B26-58A3-402E-BEF8-251E4371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5E4-1B5E-4B84-A8E2-B238C6F0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84D-7651-4B12-BD23-3ACCFCED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B67-C902-4519-99E1-C25E86E9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EE3-4366-4942-A23C-7CAE9D49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C18-93A3-4F41-807F-1586CC1A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1C5-E57E-4C62-BBA8-2BEBEDBE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2E4-6F18-4417-BDDA-E30E5EC5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6929-10FA-4230-8ACA-BE32541E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7FF-B85B-42FE-B6B6-B73FADD8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8E07-2C6E-499A-9696-CDC77B2B5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76360" y="1349280"/>
          <a:ext cx="4405320" cy="4160880"/>
        </p:xfrm>
        <a:graphic>
          <a:graphicData uri="http://schemas.openxmlformats.org/drawingml/2006/table">
            <a:tbl>
              <a:tblPr/>
              <a:tblGrid>
                <a:gridCol w="1459080"/>
                <a:gridCol w="1492200"/>
                <a:gridCol w="1454040"/>
              </a:tblGrid>
              <a:tr h="13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7559640" y="1844640"/>
            <a:ext cx="720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6058080"/>
            <a:ext cx="900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96360" y="4545000"/>
            <a:ext cx="720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9640" y="3168720"/>
            <a:ext cx="900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88360" y="297000"/>
            <a:ext cx="72072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6000" y="6058080"/>
            <a:ext cx="720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058080"/>
            <a:ext cx="936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32720" y="5805360"/>
            <a:ext cx="72072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877080" y="800280"/>
            <a:ext cx="61128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948360" y="2097000"/>
            <a:ext cx="611280" cy="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6877080" y="5552640"/>
            <a:ext cx="71928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911640" y="486900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948000" y="3429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059280" y="5697360"/>
            <a:ext cx="0" cy="36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572000" y="5697360"/>
            <a:ext cx="0" cy="36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119640" y="5697360"/>
            <a:ext cx="0" cy="36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2565360"/>
            <a:ext cx="111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162864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301608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4292640"/>
            <a:ext cx="8283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19640" y="429264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35280" y="432900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88000" y="159228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9640" y="162864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3016080"/>
            <a:ext cx="8283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35280" y="301608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593720" y="1197000"/>
            <a:ext cx="3021120" cy="3016080"/>
            <a:chOff x="1593720" y="1197000"/>
            <a:chExt cx="3021120" cy="3016080"/>
          </a:xfrm>
        </p:grpSpPr>
        <p:sp>
          <p:nvSpPr>
            <p:cNvPr id="69" name=""/>
            <p:cNvSpPr/>
            <p:nvPr/>
          </p:nvSpPr>
          <p:spPr>
            <a:xfrm>
              <a:off x="4478400" y="263700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24000" y="2610000"/>
              <a:ext cx="13680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1640" y="2637000"/>
              <a:ext cx="13680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93720" y="406080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33720" y="407664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78400" y="407664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1197000"/>
              <a:ext cx="13680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78400" y="119700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33720" y="119700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663560" y="1257480"/>
            <a:ext cx="4330800" cy="12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676520" y="1263600"/>
            <a:ext cx="4317840" cy="4330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676520" y="1282320"/>
            <a:ext cx="0" cy="4267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1282680"/>
            <a:ext cx="3632040" cy="3568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21:24:17Z</dcterms:created>
  <dc:creator>Trifon</dc:creator>
  <dc:description/>
  <dc:language>en-US</dc:language>
  <cp:lastModifiedBy>Trifon</cp:lastModifiedBy>
  <dcterms:modified xsi:type="dcterms:W3CDTF">2003-10-15T21:52:38Z</dcterms:modified>
  <cp:revision>2</cp:revision>
  <dc:subject/>
  <dc:title>Slide 1</dc:title>
</cp:coreProperties>
</file>